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4.png" ContentType="image/pn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79B17-BEA6-485E-8647-AD24F9443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AB3E3-EA0C-4D59-B354-344363D3A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7F881-2A91-4B02-BF17-1FFF5305F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E0920-7A15-477B-A136-4A78B509F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41566-5EB2-4419-BBE1-01AC3EAA3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A491E-F0D8-4930-B41F-A9F97DEC1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741DB-F9EE-4F64-97F9-6D7AAE816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5E397-FBA7-48D2-9A78-EBD24CDED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24B40-F5EC-4EF8-9F75-2DFDA175B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2264A-D9E9-4BA1-9C37-26206AB04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297CB-5CCC-466F-B3D3-1E2792090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8F965-DED3-4413-9869-4CD0C801E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5DE70-190A-4290-841D-FB2FFCACE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2D37E-CC82-43C0-9381-798F89FBF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613D9-42DD-4DC7-829E-C39E1EE04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64787-B10D-40AC-8F8C-5FE9DDE62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8701A-E260-4577-B1EC-74E0BE648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5E0EE-C24A-4A06-AD0B-2DDAA8D60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A9B74-C5F3-4BC8-8A12-80254B8D9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AB246-211C-4494-A74C-2A86639D8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38406-109A-4D8F-806A-B7C8EEA8D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B657D-238E-435C-B961-337D89232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49989-1CEC-4D40-B51C-8E8965F55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C2650-55D9-4EC4-8F4B-C1C01F4BD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82915-240D-4AD9-868B-EC8EF7905B3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F3F44-4AC7-456D-AADA-D7F4AF477D4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Ecology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600200" y="1219320"/>
            <a:ext cx="5943600" cy="4033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Habitat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The place in which an organism lives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ovides the kinds of food and shelter, the temperature, and the amount of moisture the organism needs to survive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057400" y="380880"/>
            <a:ext cx="504684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ompetition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ace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ompetition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mpetition caused by population growth affects many organisms, including humans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imits population size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467480" cy="560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Limiting Factor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ything that restricts the number of individuals in a population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cludes living and nonliving features of the ecosystem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7391520" cy="52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Succession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atural, gradual changes in the types of species that live in an area; can be primary or secondary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imary – begins in a place without so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ary – where soil already exi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762120" y="1122480"/>
            <a:ext cx="7924680" cy="47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b7"/>
                </a:solidFill>
                <a:latin typeface="Arial Black"/>
              </a:rPr>
              <a:t>The study of the interactions that take place among organisms and their environment 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457200" y="960480"/>
            <a:ext cx="8077320" cy="484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rimary Succession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035160" y="1371600"/>
            <a:ext cx="37702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Secondary Succession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438280" y="1905120"/>
            <a:ext cx="4684680" cy="45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ioneer specie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group of organisms, such as lichens, found in the primary stage of succession and that begin an area's soil-building process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066680" y="836640"/>
            <a:ext cx="7315200" cy="548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max community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community that has reached a stable stage of ecological succession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533520" y="762120"/>
            <a:ext cx="7924680" cy="521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Biom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arge geographic areas with similar climates and ecosystem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80880" y="560520"/>
            <a:ext cx="8382240" cy="573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Include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80520" y="1904760"/>
            <a:ext cx="84646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undr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aig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eser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emperate deciduous fores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emperate rain fores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opical rain forest, and grassland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Biosphere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part of Earth that supports lif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op portion of Earth's cru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ll the waters that cover Earth's surfac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tmosphere that surrounds Earth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295280" y="457200"/>
            <a:ext cx="6782040" cy="58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Ecosystem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ll the organisms living in an area and the nonliving features of their environ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533520" y="399960"/>
            <a:ext cx="8001000" cy="600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opulation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ll the organisms in an ecosystem that belong to the same species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762120" y="880920"/>
            <a:ext cx="7619760" cy="509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ommunity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ll the populations in an ecosyste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5T18:12:26Z</dcterms:created>
  <dc:creator>TMLDR_POARCH</dc:creator>
  <dc:description/>
  <dc:language>en-US</dc:language>
  <cp:lastModifiedBy>Mary Poarch</cp:lastModifiedBy>
  <dcterms:modified xsi:type="dcterms:W3CDTF">2004-03-18T19:21:42Z</dcterms:modified>
  <cp:revision>30</cp:revision>
  <dc:subject/>
  <dc:title>Ecology</dc:title>
</cp:coreProperties>
</file>